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A74F-03EE-437E-80D4-B82B91595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5844-2641-4A56-AB1C-47D8A3E3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5D5A-C8AB-4E4A-9F01-7D62A1749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5402-7B26-4159-86EC-65AD176C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0B71-0194-44D0-A4F7-FD7BC417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FF71-AED7-4AB2-ACA5-2EFC3CD1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91DE-2D77-4A9F-9DE3-E97A5578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F918-A07A-4448-B305-75E01A72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5352-974E-4FD1-9CF7-ABE62948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3247-5964-4C38-854F-82750707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357D-50B1-43DF-85C5-2AC7A399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21F0-995A-42A8-B822-8C031A2C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C26E-4551-402C-82E7-2A32FE3DE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190440" y="-4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img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190440" y="-4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img0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190440" y="-4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img0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90440" y="-4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0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190440" y="-4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190440" y="-4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img0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190440" y="-4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img00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-190440" y="-4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img0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-190440" y="-4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0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5T15:38:59Z</dcterms:created>
  <dc:creator>Val Thron</dc:creator>
  <dc:description/>
  <dc:language>en-US</dc:language>
  <cp:lastModifiedBy>Val Thron</cp:lastModifiedBy>
  <dcterms:modified xsi:type="dcterms:W3CDTF">2005-11-25T15:39:28Z</dcterms:modified>
  <cp:revision>1</cp:revision>
  <dc:subject/>
  <dc:title>PowerPoint Presentation</dc:title>
</cp:coreProperties>
</file>